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4568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75276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09944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446120" indent="-44568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792800" indent="-4453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792800" indent="-44532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Lustre_(mineralogy)" TargetMode="External"/><Relationship Id="rId3" Type="http://schemas.openxmlformats.org/officeDocument/2006/relationships/hyperlink" Target="http://en.wikipedia.org/wiki/Meta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hyperlink" Target="http://www.chemicalelements.com/elements/cr.html" TargetMode="External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hyperlink" Target="http://www.bibme.org/corkboard#" TargetMode="External"/><Relationship Id="rId7" Type="http://schemas.openxmlformats.org/officeDocument/2006/relationships/image" Target="../media/image15.png"/><Relationship Id="rId8" Type="http://schemas.openxmlformats.org/officeDocument/2006/relationships/hyperlink" Target="http://www.bibme.org/corkboard#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bibme.org/corkboard#" TargetMode="External"/><Relationship Id="rId11" Type="http://schemas.openxmlformats.org/officeDocument/2006/relationships/image" Target="../media/image15.png"/><Relationship Id="rId12" Type="http://schemas.openxmlformats.org/officeDocument/2006/relationships/hyperlink" Target="http://www.bibme.org/corkboard#" TargetMode="External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158920" y="3683160"/>
            <a:ext cx="867420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897440" y="2602080"/>
            <a:ext cx="3205080" cy="45352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5384880" y="1701720"/>
            <a:ext cx="2235240" cy="609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416400" y="698508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Chromium has a atomic mass of 51.9961. Its atomic number is 24.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832120" y="3108240"/>
            <a:ext cx="7342200" cy="5029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826160" y="4610160"/>
            <a:ext cx="761760" cy="762120"/>
          </a:xfrm>
          <a:prstGeom prst="ellipse">
            <a:avLst/>
          </a:prstGeom>
          <a:noFill/>
          <a:ln w="88920">
            <a:solidFill>
              <a:srgbClr val="33bb4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Hoefler Text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5791320" y="1650960"/>
            <a:ext cx="1409760" cy="13842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111480" y="647640"/>
            <a:ext cx="67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Text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724960" y="3086280"/>
            <a:ext cx="2082600" cy="18414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730920" y="5194440"/>
            <a:ext cx="6070680" cy="11937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888840" y="2387520"/>
            <a:ext cx="4978440" cy="49784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111480" y="1143000"/>
            <a:ext cx="787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Isotopes and Ions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489040" y="1841400"/>
            <a:ext cx="3340440" cy="38768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7264440" y="1790640"/>
            <a:ext cx="3809880" cy="3975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49440" y="952560"/>
            <a:ext cx="9524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Discovery of Chromium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66" name=""/>
          <p:cNvSpPr/>
          <p:nvPr/>
        </p:nvSpPr>
        <p:spPr>
          <a:xfrm>
            <a:off x="3860640" y="645156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Discovered by Louis Vauquelin in France in the year 1797.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786960" y="3683160"/>
            <a:ext cx="5270760" cy="306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hromium- It is a steely-gray,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2"/>
              </a:rPr>
              <a:t>lustrous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, hard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3"/>
              </a:rPr>
              <a:t>metal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that takes a high polish and has a high melting point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6780240" y="2730600"/>
            <a:ext cx="5068800" cy="4965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968480" y="1104840"/>
            <a:ext cx="8508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  <a:ea typeface="Hoefler Text"/>
              </a:rPr>
              <a:t>Physical Properties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60520" y="-1473120"/>
            <a:ext cx="10337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Uses/ Interesting facts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86960" y="2146320"/>
            <a:ext cx="5270760" cy="934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Chromium is used to harden steel, to manufacture stainless steel, and to form many alloys.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It is mostly plating to produce a hard, pretty surface and to prevent corrosion.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It gives glass an emerald green color and is widely used as a catalyst. 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Hoefler Text"/>
              </a:rPr>
              <a:t>The refractory industry has found chromite useful for forming bricks and shapes, because it has a high melting point, moderate thermal expansion, and stability of crystalline structure.</a:t>
            </a:r>
            <a:endParaRPr b="0" lang="en-US" sz="2400" spc="-1" strike="noStrike">
              <a:solidFill>
                <a:srgbClr val="4b4b4b"/>
              </a:solidFill>
              <a:latin typeface="Hoefler Text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8089920" y="354348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0000"/>
          </a:bodyPr>
          <a:p>
            <a:pPr marL="285840" indent="-2858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1.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"Chemical Elements.com - Chromium (Cr)." Chemical Elements.com - An Interactive Periodic Table of the Elements. Version 1. N.p., 24 Nov. 2009. Web. 1 Dec. 2009. &lt;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3"/>
              </a:rPr>
              <a:t>http://www.chemicalelements.com/elements/cr.html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&gt;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85840" indent="-2858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2.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unknown. Chromium. N.d. none, unknown. cooltext. Web. 24 Nov. 2009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85840" indent="-2858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3.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unknown. Cr. N.d. none, unknown. google images. Web. 24 Nov. 2009. (tags: none |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6"/>
              </a:rPr>
              <a:t>edit tags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85840" indent="-2858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4.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unknown. France. N.d. none, unknown. Google images. Web. 24 Nov. 2009. (tags: none |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8"/>
              </a:rPr>
              <a:t>edit tags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85840" indent="-2858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5.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unknown. Periodic table. N.d. none, unknown. Google images. Web. 24 Nov. 2009. (tags: none |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0"/>
              </a:rPr>
              <a:t>edit tags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85840" indent="-2858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6.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unknown. Picture of Creator. N.d. none, unknown. Google images. Web. 24 Nov. 2009. (tags: none |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2"/>
              </a:rPr>
              <a:t>edit tags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85840" indent="-2858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7.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unknown. Screws. N.d. none, unknown. Google images. Web. 24 Nov. 2009. (tags: none | </a:t>
            </a:r>
            <a:r>
              <a:rPr b="0" lang="en-US" sz="3600" spc="-1" strike="noStrike" u="sng">
                <a:solidFill>
                  <a:srgbClr val="4b4b4b"/>
                </a:solidFill>
                <a:uFillTx/>
                <a:latin typeface="Hoefler Text"/>
              </a:rPr>
              <a:t>edit tags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285840" indent="-285840">
              <a:lnSpc>
                <a:spcPct val="100000"/>
              </a:lnSpc>
              <a:spcBef>
                <a:spcPts val="2801"/>
              </a:spcBef>
              <a:buSzPct val="12755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8.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  <a:ea typeface="ヒラギノ明朝 ProN W3"/>
              </a:rPr>
              <a:t>	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unknown. Steel. N.d. none, unknown. Google images. Web. 24 Nov. 2009. (tags: none | </a:t>
            </a:r>
            <a:r>
              <a:rPr b="0" lang="en-US" sz="3600" spc="-1" strike="noStrike" u="sng">
                <a:solidFill>
                  <a:srgbClr val="4b4b4b"/>
                </a:solidFill>
                <a:uFillTx/>
                <a:latin typeface="Hoefler Text"/>
              </a:rPr>
              <a:t>edit tags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